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54F-0F7C-47FC-AB1D-BEE35E5E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AC0-87C3-45F7-A39C-4677A9A3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5F1-7DCD-4B5F-9ECF-3FE42095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D54-CAB7-4480-94A7-4E185656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F10F8-5E2C-4D54-AB80-30736647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3B1A1-28B6-45D7-8916-F609FC97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D0894-0FEA-4E8F-AE21-410EFD61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8EF5B-9FEC-441D-A6EF-3E1CC8D2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55292-89AC-4E55-93FA-8AF3B794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3EB3A-EB15-4014-A415-C57EAFBF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C1DA4-7A79-46B6-B926-68A0FBF0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696-FF9B-4176-88BB-CB783620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C6E2A-0722-44BB-8EA8-68AB6CE6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BCD1D-DB25-48B1-97E0-8D206AEA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C28E5-1C5C-466D-B2E7-A1FA0B0B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0A013-91B8-4006-877C-E6249029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3EBFC-D3E1-45AC-920C-E1D4A81A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739-BE24-4946-9B07-0BFA784A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326-3EC7-4FB9-BB10-A6AD474D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FA3-95BC-4DD2-A313-92D5A9F5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C23-85DF-47DD-9080-01E49777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7F3-3AF8-424C-86CD-65062FB2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6FE-841E-40A6-AAAA-823644AC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641-23D1-4AC1-BB03-17C73DCA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D6C4-2756-429B-8D35-90753B2160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C910-DD87-4FE3-8381-E43E0862EF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aps on the goldfield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f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ps are like police men except they have no guns no badges and no correct uniform here is a picture of a t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18716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Traps had as Weapon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ps had a little pistol and a large stick or the had a sharp pointy swo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pons pi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3:06:05Z</dcterms:created>
  <dc:creator>joshua_matti</dc:creator>
  <dc:description/>
  <dc:language>en-US</dc:language>
  <cp:lastModifiedBy>joshua_matti</cp:lastModifiedBy>
  <dcterms:modified xsi:type="dcterms:W3CDTF">2010-08-24T05:11:45Z</dcterms:modified>
  <cp:revision>4</cp:revision>
  <dc:subject/>
  <dc:title> </dc:title>
</cp:coreProperties>
</file>